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005-0AF8-42BC-9658-ADBB957E2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A2E6-907A-434A-B24B-9E1288A0F7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27E0-830E-499B-9931-6CE924643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52EB-A108-466D-8538-0B5904EAF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F96-B985-4D74-A92D-A23416A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4CA-28E7-49A0-95E8-3B7B336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D8D-53B1-4272-85D9-64A9880D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DAF-47A7-439D-B1DC-9485A0A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815-857B-47BA-B3A8-B8F19AC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5EA-69EF-4AFB-8F35-795159C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7FC-8E2D-4AB6-8299-01F4B53C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816-39A5-4BCF-AE2C-9F52134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2A7-C845-4C3C-840C-C3AC71B0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1F1-C317-41AD-8364-F807D02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1CA-0C3D-4278-BE3F-57EAC51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A82-D81B-477A-BB7F-A9BD769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D740-09DD-4C40-B66F-1B6C8C0FE1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2FB8-C644-4019-9D5A-059259250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366920" y="2184480"/>
            <a:ext cx="1026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3a99"/>
                </a:solidFill>
                <a:latin typeface="Calibri"/>
              </a:rPr>
              <a:t>Отчет о состоянии доступных к использованию лимитов бюджетных обязательств на осуществление закуп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0CB-DC3D-456D-9AD2-B42DCA705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4280" y="129960"/>
            <a:ext cx="7821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Варианты исполнения функций по контролю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F453-AF2A-4D4D-8F72-0A8B71D85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>
            <a:off x="4292640" y="1257480"/>
            <a:ext cx="0" cy="452268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8"/>
          <p:cNvSpPr/>
          <p:nvPr/>
        </p:nvSpPr>
        <p:spPr>
          <a:xfrm>
            <a:off x="1324080" y="2592360"/>
            <a:ext cx="934560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761720" y="1442880"/>
            <a:ext cx="227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Контроль (99с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осуществ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финансовый орг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7966440" y="1455840"/>
            <a:ext cx="197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Контроль (99с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осуществ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орган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092240" y="2944800"/>
            <a:ext cx="329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Ведение л/с заказчиков осуществля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финансовый орг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лыбающееся лицо 20"/>
          <p:cNvSpPr/>
          <p:nvPr/>
        </p:nvSpPr>
        <p:spPr>
          <a:xfrm>
            <a:off x="5378400" y="3065400"/>
            <a:ext cx="841320" cy="8287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Улыбающееся лицо 24"/>
          <p:cNvSpPr/>
          <p:nvPr/>
        </p:nvSpPr>
        <p:spPr>
          <a:xfrm>
            <a:off x="8485200" y="4470480"/>
            <a:ext cx="841320" cy="8287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Умножение 21"/>
          <p:cNvSpPr/>
          <p:nvPr/>
        </p:nvSpPr>
        <p:spPr>
          <a:xfrm>
            <a:off x="8361360" y="3024360"/>
            <a:ext cx="1004760" cy="990360"/>
          </a:xfrm>
          <a:custGeom>
            <a:avLst/>
            <a:gdLst/>
            <a:ahLst/>
            <a:rect l="l" t="t" r="r" b="b"/>
            <a:pathLst>
              <a:path w="1004762" h="990758">
                <a:moveTo>
                  <a:pt x="159512" y="320919"/>
                </a:moveTo>
                <a:lnTo>
                  <a:pt x="323126" y="154992"/>
                </a:lnTo>
                <a:lnTo>
                  <a:pt x="502381" y="331749"/>
                </a:lnTo>
                <a:lnTo>
                  <a:pt x="681636" y="154992"/>
                </a:lnTo>
                <a:lnTo>
                  <a:pt x="845250" y="320919"/>
                </a:lnTo>
                <a:lnTo>
                  <a:pt x="668324" y="495379"/>
                </a:lnTo>
                <a:lnTo>
                  <a:pt x="845250" y="669839"/>
                </a:lnTo>
                <a:lnTo>
                  <a:pt x="681636" y="835766"/>
                </a:lnTo>
                <a:lnTo>
                  <a:pt x="502381" y="659009"/>
                </a:lnTo>
                <a:lnTo>
                  <a:pt x="323126" y="835766"/>
                </a:lnTo>
                <a:lnTo>
                  <a:pt x="159512" y="669839"/>
                </a:lnTo>
                <a:lnTo>
                  <a:pt x="336438" y="495379"/>
                </a:lnTo>
                <a:lnTo>
                  <a:pt x="159512" y="320919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5468760" y="4114800"/>
            <a:ext cx="7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d7d31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1092240" y="4390920"/>
            <a:ext cx="329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Ведение л/с заказчиков осуществля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орган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94280" y="130320"/>
            <a:ext cx="7821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Варианты исполнения функций по контролю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77F-EF8B-4BF9-8D69-69CAE446F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1948680" y="1733400"/>
            <a:ext cx="227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Контроль (99с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осуществ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финансовый орг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5638680" y="1733400"/>
            <a:ext cx="329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Ведение л/с заказчиков осуществля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орган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Крест 1"/>
          <p:cNvSpPr/>
          <p:nvPr/>
        </p:nvSpPr>
        <p:spPr>
          <a:xfrm>
            <a:off x="4802040" y="1928880"/>
            <a:ext cx="654120" cy="625320"/>
          </a:xfrm>
          <a:prstGeom prst="plus">
            <a:avLst>
              <a:gd name="adj" fmla="val 3808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9"/>
          <p:cNvSpPr/>
          <p:nvPr/>
        </p:nvSpPr>
        <p:spPr>
          <a:xfrm>
            <a:off x="1306440" y="3156120"/>
            <a:ext cx="9345600" cy="0"/>
          </a:xfrm>
          <a:prstGeom prst="line">
            <a:avLst/>
          </a:prstGeom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Равно 2"/>
          <p:cNvSpPr/>
          <p:nvPr/>
        </p:nvSpPr>
        <p:spPr>
          <a:xfrm>
            <a:off x="9271080" y="1784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290916"/>
                </a:moveTo>
                <a:lnTo>
                  <a:pt x="793196" y="29091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29091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623484"/>
                </a:lnTo>
                <a:lnTo>
                  <a:pt x="121204" y="62348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1496880" y="3511440"/>
            <a:ext cx="8966160" cy="107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чет о состоянии доступных к использованию лимитов бюджетных обязательств на осуществление закуп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5"/>
          <p:cNvSpPr/>
          <p:nvPr/>
        </p:nvSpPr>
        <p:spPr>
          <a:xfrm>
            <a:off x="4587840" y="4905360"/>
            <a:ext cx="2782800" cy="107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запросу финансового органа формируется органом ФК ежеднев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23"/>
          <p:cNvSpPr/>
          <p:nvPr/>
        </p:nvSpPr>
        <p:spPr>
          <a:xfrm>
            <a:off x="1496880" y="4905360"/>
            <a:ext cx="2806920" cy="107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ит информацию о лимитах и обязательствах в разрезе ПБС и КБК (ВР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26"/>
          <p:cNvSpPr/>
          <p:nvPr/>
        </p:nvSpPr>
        <p:spPr>
          <a:xfrm>
            <a:off x="7656480" y="4905360"/>
            <a:ext cx="2806560" cy="107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ставляется в электронном виде через СУФД-порт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001"/>
          <p:cNvPicPr/>
          <p:nvPr/>
        </p:nvPicPr>
        <p:blipFill>
          <a:blip r:embed="rId1"/>
          <a:stretch/>
        </p:blipFill>
        <p:spPr>
          <a:xfrm>
            <a:off x="385920" y="1528920"/>
            <a:ext cx="11529720" cy="524808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79EC-AE32-452D-9D59-FE5060BBA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094280" y="130320"/>
            <a:ext cx="782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Формат предоставления финансовым органа информации для осуществления 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02"/>
          <p:cNvPicPr/>
          <p:nvPr/>
        </p:nvPicPr>
        <p:blipFill>
          <a:blip r:embed="rId1"/>
          <a:stretch/>
        </p:blipFill>
        <p:spPr>
          <a:xfrm>
            <a:off x="363600" y="1479600"/>
            <a:ext cx="11498040" cy="529740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E633-885F-41F4-AE51-A93E923DA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094280" y="147600"/>
            <a:ext cx="7821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Формат предоставления финансовым органа информации для осуществления 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3"/>
          <p:cNvCxnSpPr/>
          <p:nvPr/>
        </p:nvCxnSpPr>
        <p:spPr>
          <a:xfrm>
            <a:off x="1512720" y="2865240"/>
            <a:ext cx="52776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80" name="Вертикальный свиток 4"/>
          <p:cNvSpPr/>
          <p:nvPr/>
        </p:nvSpPr>
        <p:spPr>
          <a:xfrm>
            <a:off x="1927080" y="1509840"/>
            <a:ext cx="1959120" cy="1990440"/>
          </a:xfrm>
          <a:prstGeom prst="verticalScroll">
            <a:avLst>
              <a:gd name="adj" fmla="val 1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едение о БО с типом «прочее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вязанное с закупкой товаров, работ, услуг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Прямая со стрелкой 10"/>
          <p:cNvCxnSpPr/>
          <p:nvPr/>
        </p:nvCxnSpPr>
        <p:spPr>
          <a:xfrm>
            <a:off x="3607920" y="2865240"/>
            <a:ext cx="1142280" cy="549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82" name="Прямая со стрелкой 15"/>
          <p:cNvCxnSpPr/>
          <p:nvPr/>
        </p:nvCxnSpPr>
        <p:spPr>
          <a:xfrm>
            <a:off x="7184520" y="2657520"/>
            <a:ext cx="1080" cy="4831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83" name="Выноска со стрелкой вниз 25"/>
          <p:cNvSpPr/>
          <p:nvPr/>
        </p:nvSpPr>
        <p:spPr>
          <a:xfrm>
            <a:off x="4749840" y="3139920"/>
            <a:ext cx="4975200" cy="1487520"/>
          </a:xfrm>
          <a:prstGeom prst="downArrowCallout">
            <a:avLst>
              <a:gd name="adj1" fmla="val 20286"/>
              <a:gd name="adj2" fmla="val 20873"/>
              <a:gd name="adj3" fmla="val 17917"/>
              <a:gd name="adj4" fmla="val 64977"/>
            </a:avLst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доступного остатка ЛБО на осуществление закупо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ступный остаток ЛБО= ЛБО – БО с типом «проче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Вертикальный свиток 8192"/>
          <p:cNvSpPr/>
          <p:nvPr/>
        </p:nvSpPr>
        <p:spPr>
          <a:xfrm>
            <a:off x="5607000" y="4627440"/>
            <a:ext cx="3043440" cy="1198800"/>
          </a:xfrm>
          <a:prstGeom prst="verticalScroll">
            <a:avLst>
              <a:gd name="adj" fmla="val 1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чет о состоянии доступных к использованию лимитов бюджетных обязательств на осуществление закуп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процесс 1"/>
          <p:cNvSpPr/>
          <p:nvPr/>
        </p:nvSpPr>
        <p:spPr>
          <a:xfrm>
            <a:off x="9021600" y="4627440"/>
            <a:ext cx="1262160" cy="1266840"/>
          </a:xfrm>
          <a:prstGeom prst="flowChartProcess">
            <a:avLst/>
          </a:prstGeom>
          <a:solidFill>
            <a:srgbClr val="d6dce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ФД-порта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м документо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78400" y="1712880"/>
          <a:ext cx="5422680" cy="1066680"/>
        </p:xfrm>
        <a:graphic>
          <a:graphicData uri="http://schemas.openxmlformats.org/drawingml/2006/table">
            <a:tbl>
              <a:tblPr/>
              <a:tblGrid>
                <a:gridCol w="54226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ное рас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имиты бюджетных обязательств (ЛБО), доведенные на 03 и 14 лицевые счета ПБС с датой введения в действие, начиная с 01.01.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87" name="Вертикальный свиток 26"/>
          <p:cNvSpPr/>
          <p:nvPr/>
        </p:nvSpPr>
        <p:spPr>
          <a:xfrm>
            <a:off x="1862280" y="3811680"/>
            <a:ext cx="2023920" cy="1989000"/>
          </a:xfrm>
          <a:prstGeom prst="verticalScroll">
            <a:avLst>
              <a:gd name="adj" fmla="val 1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едение о БО с типом «закупка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 возникло в соответствии с Планом закупо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27"/>
          <p:cNvCxnSpPr/>
          <p:nvPr/>
        </p:nvCxnSpPr>
        <p:spPr>
          <a:xfrm>
            <a:off x="1512720" y="4449240"/>
            <a:ext cx="52776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89" name="Прямая со стрелкой 30"/>
          <p:cNvCxnSpPr/>
          <p:nvPr/>
        </p:nvCxnSpPr>
        <p:spPr>
          <a:xfrm flipV="1">
            <a:off x="3607920" y="3811680"/>
            <a:ext cx="1142280" cy="6382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90" name="Блок-схема: процесс 39"/>
          <p:cNvSpPr/>
          <p:nvPr/>
        </p:nvSpPr>
        <p:spPr>
          <a:xfrm>
            <a:off x="10669680" y="1657440"/>
            <a:ext cx="939600" cy="1187280"/>
          </a:xfrm>
          <a:prstGeom prst="flowChartProcess">
            <a:avLst/>
          </a:prstGeom>
          <a:solidFill>
            <a:srgbClr val="d6dce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Б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:\Users\ABorodulin\AppData\Local\Microsoft\Windows\INetCache\IE\HKDXOZL5\MC900433942[1].png"/>
          <p:cNvPicPr/>
          <p:nvPr/>
        </p:nvPicPr>
        <p:blipFill>
          <a:blip r:embed="rId1"/>
          <a:stretch/>
        </p:blipFill>
        <p:spPr>
          <a:xfrm>
            <a:off x="10907640" y="2281320"/>
            <a:ext cx="461880" cy="476280"/>
          </a:xfrm>
          <a:prstGeom prst="rect">
            <a:avLst/>
          </a:prstGeom>
          <a:ln w="0">
            <a:noFill/>
          </a:ln>
        </p:spPr>
      </p:pic>
      <p:cxnSp>
        <p:nvCxnSpPr>
          <p:cNvPr id="92" name="Прямая со стрелкой 34"/>
          <p:cNvCxnSpPr>
            <a:stCxn id="90" idx="1"/>
          </p:cNvCxnSpPr>
          <p:nvPr/>
        </p:nvCxnSpPr>
        <p:spPr>
          <a:xfrm flipH="1" flipV="1">
            <a:off x="9900360" y="2245680"/>
            <a:ext cx="769320" cy="54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3" name="Прямая со стрелкой 49"/>
          <p:cNvCxnSpPr/>
          <p:nvPr/>
        </p:nvCxnSpPr>
        <p:spPr>
          <a:xfrm>
            <a:off x="8494560" y="5231880"/>
            <a:ext cx="52776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grpSp>
        <p:nvGrpSpPr>
          <p:cNvPr id="94" name="Группа 51"/>
          <p:cNvGrpSpPr/>
          <p:nvPr/>
        </p:nvGrpSpPr>
        <p:grpSpPr>
          <a:xfrm>
            <a:off x="725400" y="2519280"/>
            <a:ext cx="939960" cy="2367000"/>
            <a:chOff x="725400" y="2519280"/>
            <a:chExt cx="939960" cy="2367000"/>
          </a:xfrm>
        </p:grpSpPr>
        <p:sp>
          <p:nvSpPr>
            <p:cNvPr id="95" name="Блок-схема: процесс 52"/>
            <p:cNvSpPr/>
            <p:nvPr/>
          </p:nvSpPr>
          <p:spPr>
            <a:xfrm>
              <a:off x="725400" y="2519280"/>
              <a:ext cx="939960" cy="2367000"/>
            </a:xfrm>
            <a:prstGeom prst="flowChartProcess">
              <a:avLst/>
            </a:prstGeom>
            <a:solidFill>
              <a:srgbClr val="d6dce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Б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3" descr="C:\Users\ABorodulin\AppData\Local\Microsoft\Windows\INetCache\IE\HKDXOZL5\MC900433942[1].png"/>
            <p:cNvPicPr/>
            <p:nvPr/>
          </p:nvPicPr>
          <p:blipFill>
            <a:blip r:embed="rId2"/>
            <a:stretch/>
          </p:blipFill>
          <p:spPr>
            <a:xfrm>
              <a:off x="964440" y="4047120"/>
              <a:ext cx="461880" cy="51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Группа 54"/>
          <p:cNvGrpSpPr/>
          <p:nvPr/>
        </p:nvGrpSpPr>
        <p:grpSpPr>
          <a:xfrm>
            <a:off x="10760040" y="4175280"/>
            <a:ext cx="939960" cy="2103120"/>
            <a:chOff x="10760040" y="4175280"/>
            <a:chExt cx="939960" cy="2103120"/>
          </a:xfrm>
        </p:grpSpPr>
        <p:sp>
          <p:nvSpPr>
            <p:cNvPr id="98" name="Блок-схема: процесс 55"/>
            <p:cNvSpPr/>
            <p:nvPr/>
          </p:nvSpPr>
          <p:spPr>
            <a:xfrm>
              <a:off x="10760040" y="4175280"/>
              <a:ext cx="939960" cy="2103120"/>
            </a:xfrm>
            <a:prstGeom prst="flowChartProcess">
              <a:avLst/>
            </a:prstGeom>
            <a:solidFill>
              <a:srgbClr val="d6dce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ФО </a:t>
              </a: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осуществляющий контроль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3" descr="C:\Users\ABorodulin\AppData\Local\Microsoft\Windows\INetCache\IE\HKDXOZL5\MC900433942[1].png"/>
            <p:cNvPicPr/>
            <p:nvPr/>
          </p:nvPicPr>
          <p:blipFill>
            <a:blip r:embed="rId3"/>
            <a:stretch/>
          </p:blipFill>
          <p:spPr>
            <a:xfrm>
              <a:off x="10999080" y="5727960"/>
              <a:ext cx="461880" cy="4618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0" name="Прямая со стрелкой 57"/>
          <p:cNvCxnSpPr>
            <a:endCxn id="98" idx="1"/>
          </p:cNvCxnSpPr>
          <p:nvPr/>
        </p:nvCxnSpPr>
        <p:spPr>
          <a:xfrm>
            <a:off x="10283400" y="5227200"/>
            <a:ext cx="47700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101" name="Номер слайда 4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DE0-28F9-428D-B424-3AA7AF4B2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4094280" y="130320"/>
            <a:ext cx="7821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Процесс формирования от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11730960" y="6340320"/>
            <a:ext cx="263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666800" y="2938320"/>
            <a:ext cx="90471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5902-5013-4171-B5B4-19DDBD00B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Мороков Константин Владимирович</dc:creator>
  <dc:description/>
  <dc:language>en-US</dc:language>
  <cp:lastModifiedBy>Мороков Константин Владимирович</cp:lastModifiedBy>
  <cp:lastPrinted>2015-12-21T06:28:02Z</cp:lastPrinted>
  <dcterms:modified xsi:type="dcterms:W3CDTF">2016-12-05T06:21:29Z</dcterms:modified>
  <cp:revision>343</cp:revision>
  <dc:subject/>
  <dc:title>Презентация PowerPoint</dc:title>
</cp:coreProperties>
</file>